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FC6-7C47-4750-B906-ACD77889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D9A-F996-4BE2-ACDA-D0407D6E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740-E87F-4470-A5D5-0A89AAA8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9C7-AFDF-4F62-9714-A4F560B8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24B-77F8-4045-A862-73B5E73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534-1290-4025-B995-A42AC3A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595-BEFB-45AB-81D4-65E5976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421-C72D-492B-A956-ECB426F3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836-84E7-443F-A8DE-33A7148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87E-77A5-4DD6-8F18-A6BC32D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0D9-26B2-4F02-B19F-ACB30DC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E4C-7C67-4A6F-9DD5-06F1BE6B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1E4-64B7-44D0-99C0-47047059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520" y="450720"/>
            <a:ext cx="9048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64832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38600" y="1700280"/>
            <a:ext cx="4505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889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331920"/>
            <a:ext cx="97538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714920" cy="307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572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714920" cy="30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05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280" y="476280"/>
            <a:ext cx="88027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0" y="331920"/>
            <a:ext cx="91728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295880" cy="626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24800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610160" cy="338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14760" y="1700280"/>
            <a:ext cx="4629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293760"/>
            <a:ext cx="91533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59:29Z</dcterms:created>
  <dc:creator>UB</dc:creator>
  <dc:description/>
  <dc:language>en-US</dc:language>
  <cp:lastModifiedBy>UB</cp:lastModifiedBy>
  <dcterms:modified xsi:type="dcterms:W3CDTF">2007-06-01T10:17:39Z</dcterms:modified>
  <cp:revision>3</cp:revision>
  <dc:subject/>
  <dc:title>Diapositiva 1</dc:title>
</cp:coreProperties>
</file>